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B2F3-DB96-44AD-86D4-63526BF08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C906-5C74-4864-A581-CA8E8E5FF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0A2C-1260-405F-AC78-BAAD0CDA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1D08-38D6-4159-B282-ADCEC7FE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BFE-0BD0-438C-ADEF-76DA4691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366-E498-4DF5-A22C-6614CB55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77D8-C9C0-4409-8FDE-FD516937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9E3C-2B05-4D9E-A1A7-8A7D3465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FFD-4B0B-4910-A9FE-FC9427CA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B86-8254-40F0-89EF-894C696D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60CD-51C8-45FB-9A59-5943F012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40B-1229-40E0-AE44-F16AFB34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CB1-23BE-411D-A269-21C337AF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65E-2D0A-4810-B7C8-18D54C8E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772D-7B22-44F4-8319-C7F903874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对此演示文稿的权限当前受到限制。如果没有运行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crosoft Office 2003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或其他支持受限权限演示文稿的应用程序，您可以下载“用于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net Explorer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的权限管理加载项”以阅读此演示文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56:24Z</dcterms:created>
  <dc:creator/>
  <dc:description/>
  <dc:language>en-US</dc:language>
  <cp:lastModifiedBy/>
  <dcterms:modified xsi:type="dcterms:W3CDTF">2007-03-29T02:36:08Z</dcterms:modified>
  <cp:revision>83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